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50C-0772-49F4-BCE7-64BE1EAF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BDE-872A-40FD-847E-8FC34282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B98-35F9-40C8-8F29-F8275F37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4BC-0DDD-45D0-BC90-1783F000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28C-AF90-44CE-A1D6-992D9D3C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413-382D-4DBB-A34F-ACB489F0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BC7-E19F-4F6E-BE84-35B22569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B50-2693-4B68-8234-7BCDBE22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411-B0AE-4881-8A0E-75B9A617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863-BA3E-4840-BB3F-F0D224AA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C6C-FA48-4170-8984-E53B13D4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6F0-8E2C-49BA-8116-B70E43F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CEE7-8FA5-48D2-9622-B673FCE83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8580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3:24:21Z</dcterms:created>
  <dc:creator>Patrick J. Mooney</dc:creator>
  <dc:description/>
  <dc:language>en-US</dc:language>
  <cp:lastModifiedBy>Patrick J. Mooney</cp:lastModifiedBy>
  <dcterms:modified xsi:type="dcterms:W3CDTF">2009-11-03T15:24:14Z</dcterms:modified>
  <cp:revision>3</cp:revision>
  <dc:subject/>
  <dc:title>Slide 1</dc:title>
</cp:coreProperties>
</file>